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ED97-7B37-4EEC-BE9B-0D99AF3347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亮亮图文旗舰店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s://liangliangtuwen.tmall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196F-F197-4072-A3A7-7425F7797B0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93C-F5A9-4FCD-B28E-F1EB68C5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25F9-5EE8-4FC4-BB93-E1231F2F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99E54-9387-4043-B5C1-DBD1E86E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842A2-499D-40C4-94DC-20C16184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B9465-3289-4DA3-8715-ECAECF4E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2EE3C-4E71-4F75-844F-01BEC5B0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34C55-5565-4321-BA49-A35F79A3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2599E-F83A-47C0-A5EC-D5A9A4B9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3CE71-54A7-439B-ACB3-C720A421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B3E14-02CF-4F4F-9DA6-A852EC26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597CC-A402-409E-8949-D6DE85B4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C5455-E29C-46D1-B123-93F839BC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D49-F7F3-4273-8568-9E345D48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BCFEC-937C-46FF-8C33-7D6266A7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B3236-E8F7-4865-8357-4914B7C7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65A7F-9EEC-435F-B59D-AAF4DE89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9CD4F-EB29-46F8-9B19-1BBBC711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A4A1F-9B63-414F-9DFC-A83948BC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78CD7-C586-4D65-9564-CFD4A013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DC9DC-B35F-4F98-AD90-DE956F64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86884-1CFA-4AAD-8FC3-F0CC7D93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5B30F-680D-4A77-8692-4072ED3C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F991B-E486-42DC-9BEE-A4406C85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00B-D342-45A7-8640-B2011D43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CDCF4-A273-4418-9834-8B6DB49D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2B9F8-7417-44CF-A57B-F02A0B48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BCDF6-4DA0-4986-BCB1-CD0F2FCC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42CE0-73CE-4D31-BC1E-E3BD96C3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C8FDD-B4C8-4665-98E7-FD471077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C441D-4E1B-4154-B17C-B86D54AE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C4313-753B-406D-9C96-85F01345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24CF6-EC7F-4524-BB8E-DD14A1EA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AC009-7599-4EAC-A458-EE5ED6E4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E6DAB-7EB2-4289-B70D-EEB90F13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DB8D-B0F6-4DCC-AD7C-7292923E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25F4B-3A43-410C-97BC-D21AA2B0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19655-6339-4BB9-8A63-E64A7A38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5D7D8-50D6-455D-92D9-ADA08D7D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113E2-8128-4D7A-B552-7847B8EC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ECFDA-C481-4BFF-9FD6-D0A064DC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0BF4D-E603-49F3-A4CD-EE3DFC0D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DD1DC-87F8-4450-8A51-D4E07983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6AB65-F270-4E1B-8802-3DA49C4B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BAB86-3F23-4C22-95C8-4C04F14A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57E55-0010-46C7-9923-4FEE9FB3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4E2D-AF7D-41E3-9E43-41440231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12069-122E-4F06-97B8-BCC4B7BB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3AF20-F94E-4767-B746-7BC289A6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37D03-3842-43CA-925B-1A194337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361EB-4F53-48CF-8328-46A32CDE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1DA48-E5C8-4B9E-9895-463EC4CF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5092-BDA0-4CA8-ACB0-4409EB2B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6867-DDDC-41CF-A759-4805D0BD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7989-6282-4AAA-819C-8632335F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D33E-51E6-4D4D-A7C4-C3486D3B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4609-80E1-4F69-8E49-CAA7798C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DCE1-E98D-4C03-A479-CA304F2C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6AF8-228B-4650-B0F4-4FDE5F05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6A6D-C38C-447E-86B7-77AC9C64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655A-A19F-47C5-9F38-A2ED2E77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794B-DD35-43DF-8BE6-5566BE75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EBBC-8DF7-4CC0-9BE9-BF668F80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AED17-206E-498F-9D90-6532C8A3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5792E-B495-4B8A-A2B7-318904EC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3EFE7-3BBE-434A-A46C-CAF52CF6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6D70A-1D0F-4A7C-BA3C-68F39BF7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D4265-BA64-4C73-9A28-2538D9BA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46E6-10B8-4137-B016-F8460571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1BDF4-5F9B-4E55-BCEB-19A71D4D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AA484-43B8-4EBE-8271-DED8BFAF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7CB75-16A3-4AB4-89DA-D580C92A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4714E-968A-4991-BFF7-4A822202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CA2F7-9200-4622-AED4-8A137074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B745A-5D3D-4A99-8BD8-99639A3E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FE99F-5F26-4929-B54C-8B38FD85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BB1C3-6314-4922-9977-96B32EC8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D6FDB-D2EC-458A-8A8C-3264E34B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BD7AE-7979-4EAD-BFDF-8C0643FD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161E-F3CD-4D75-B7DD-88147598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764F1-E3DE-4D7C-9F03-59853C16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5768B-06A8-439F-BF58-A12C49F5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51A4D-67A0-4A3F-905A-89FB307F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2C0A6-055E-42B8-9EB4-A681AA25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773FA-710C-400F-A182-85499379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2750D-3871-40D9-8C48-C0C3A360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8B123-1B1F-4024-9DED-32A4788A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0FC31-0616-4452-8311-C988AD3E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1C1A7-E8B0-4E14-81B4-1F06A9A3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13417-8207-4841-9B53-F4297884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F2BF-C9B5-4C15-B358-306186C5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2A600-C8C7-4819-8587-5AFDBCD9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CB0C7-5A82-4826-BEFC-613DB2F8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4BFA0-CF77-4324-B78E-61ACC1A1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43ACA-0BF2-4928-8375-E42C82F6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1CBF7-C991-4332-8CF5-1F219BAB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D8D34-1A4C-4569-BF8A-E87693C0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F732A-60A1-43D7-A74C-9ACC0EE5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BA142-06D1-44B6-A1D6-AADBC4EC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0153A-412D-4637-BCCD-DC98E1AA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43870-59A2-40C5-8E4A-B78F528D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718-0B37-4ACD-944B-3B185150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E1D4F-D1D2-4952-BABE-FB24E1A8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C94EE-FF20-4D63-80CA-9651A707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AC412-4F21-4549-8B6B-FE4F93BD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B9668-F98A-4671-9FDA-8AF57E5D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1A906-4B99-42BF-9523-F1A53AA5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A84C4-42DD-4FE0-8E86-5EA91578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CD3DE-2757-4747-88E2-DD3EF882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23E0A-603A-46AC-BB1B-9F98CC2E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6B60F-DE6B-4A07-9770-0617C905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D905B-AEEF-4F06-B7D4-1B71EE62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544-84D1-42D0-834D-5D26A082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E61AC-8BCC-4111-ABD0-9BCEDD0F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FBEF4-BBA3-4F99-AD08-BDE486B0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A0BE8-6B19-4D9D-A406-9A8593BE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7AA28-CEA8-45C5-88B2-645959DB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1B0FE-539B-4770-8507-2D14067A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FB81A-410F-402D-B9CC-0E16F74F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EA33F-920C-4187-9801-5DFF54C1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68A34-DE04-4D2D-82C0-FE1BD243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9528E-CF6B-43E5-9B2A-F7D18564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CF86D-6B46-42F2-831C-8A7D9E56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FF49-6FDD-4030-91B0-18286476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94019-A1A5-4C4E-B3E6-1686F459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6CF5F-90A9-46D1-B760-442C9C98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ACCC6-A1E7-47B6-988E-EB89B926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399B3-14CD-46A1-A1C7-CE9929C5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8BB44-8B47-4E19-85FB-8E68BAE8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FFA9C-B1F3-4A73-BCBC-03BA3F60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8FE19-27D4-4489-8E61-CFF5E5AD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1EF9A-AC9C-4213-826F-22C1093A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09784-A77B-471F-A634-CC921A6E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9E09C-901E-46F5-92BB-1AC2506E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0379-20CC-4B20-BD5C-2106DD80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87CBF-97A4-4968-ACD2-AC4ED3D8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63322-289B-4B36-B434-1EEC6443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04517-A6B5-46EB-8161-1839EE7F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AFD9A-A1CE-4C23-8028-1A74638B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EF9C1-E8F2-4216-8F91-D2824ECE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943D9-3BDD-4372-B90B-A0605A2F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53559-56EE-495F-B2D2-BEC4FF05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B39C7-6FAB-4537-89E4-C245C48C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FCCB5-D3DD-4465-9AE3-8CA03632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D2927-7A7A-49BD-B3D8-BBCC6897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63AD-618A-45FA-B2EE-470A43E3C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25A9-F02B-4627-A7E2-311A27CDD1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22BD-2155-4CED-A750-BB2CB18610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C6B6-EC60-41E6-8B24-C003523AF7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5DF1-162A-4EF0-8217-0268A6EA44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CD84-6724-4FB2-9137-EADCE92701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D70D-F082-4606-B433-F650852B8D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8C1D-7A02-454E-9113-AC3A3B3F49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9859-E6B0-49BD-A2DC-7361AF6B2F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AB20-2260-41AF-82A8-77059B357B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766A-89B0-466D-B3CF-675D4FFD63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DA48-8387-4778-952B-7DCAB9E4F4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11"/>
          <p:cNvSpPr/>
          <p:nvPr/>
        </p:nvSpPr>
        <p:spPr>
          <a:xfrm>
            <a:off x="5562720" y="28195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华文彩云"/>
                <a:ea typeface="华文彩云"/>
              </a:rPr>
              <a:t>礼物树</a:t>
            </a:r>
            <a:r>
              <a:rPr b="1" lang="en-US" sz="3600" spc="-1" strike="noStrike">
                <a:solidFill>
                  <a:srgbClr val="ff3399"/>
                </a:solidFill>
                <a:latin typeface="华文彩云"/>
                <a:ea typeface="华文彩云"/>
              </a:rPr>
              <a:t>PPT</a:t>
            </a:r>
            <a:r>
              <a:rPr b="1" lang="zh-CN" sz="3600" spc="-1" strike="noStrike">
                <a:solidFill>
                  <a:srgbClr val="ff3399"/>
                </a:solidFill>
                <a:latin typeface="华文彩云"/>
                <a:ea typeface="华文彩云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1600200" y="1295280"/>
            <a:ext cx="6008760" cy="932400"/>
            <a:chOff x="1600200" y="1295280"/>
            <a:chExt cx="6008760" cy="932400"/>
          </a:xfrm>
        </p:grpSpPr>
        <p:grpSp>
          <p:nvGrpSpPr>
            <p:cNvPr id="501" name="Group 3"/>
            <p:cNvGrpSpPr/>
            <p:nvPr/>
          </p:nvGrpSpPr>
          <p:grpSpPr>
            <a:xfrm>
              <a:off x="1600200" y="1295280"/>
              <a:ext cx="6008760" cy="932400"/>
              <a:chOff x="1600200" y="1295280"/>
              <a:chExt cx="6008760" cy="932400"/>
            </a:xfrm>
          </p:grpSpPr>
          <p:grpSp>
            <p:nvGrpSpPr>
              <p:cNvPr id="502" name="Group 4"/>
              <p:cNvGrpSpPr/>
              <p:nvPr/>
            </p:nvGrpSpPr>
            <p:grpSpPr>
              <a:xfrm>
                <a:off x="1600200" y="1295280"/>
                <a:ext cx="6008760" cy="838440"/>
                <a:chOff x="1600200" y="1295280"/>
                <a:chExt cx="6008760" cy="838440"/>
              </a:xfrm>
            </p:grpSpPr>
            <p:sp>
              <p:nvSpPr>
                <p:cNvPr id="503" name="圆角矩形 2"/>
                <p:cNvSpPr/>
                <p:nvPr/>
              </p:nvSpPr>
              <p:spPr>
                <a:xfrm>
                  <a:off x="2122200" y="1419120"/>
                  <a:ext cx="5486760" cy="609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2f2f2"/>
                </a:solidFill>
                <a:ln w="936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椭圆 1"/>
                <p:cNvSpPr/>
                <p:nvPr/>
              </p:nvSpPr>
              <p:spPr>
                <a:xfrm>
                  <a:off x="1600200" y="1295280"/>
                  <a:ext cx="838080" cy="838440"/>
                </a:xfrm>
                <a:prstGeom prst="ellipse">
                  <a:avLst/>
                </a:pr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TextBox 11"/>
              <p:cNvSpPr/>
              <p:nvPr/>
            </p:nvSpPr>
            <p:spPr>
              <a:xfrm>
                <a:off x="2797200" y="1523880"/>
                <a:ext cx="4408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亮亮图文旗舰店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https://liangliangtuwen.tmall.co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TextBox 6"/>
            <p:cNvSpPr/>
            <p:nvPr/>
          </p:nvSpPr>
          <p:spPr>
            <a:xfrm>
              <a:off x="1811160" y="1465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9"/>
          <p:cNvGrpSpPr/>
          <p:nvPr/>
        </p:nvGrpSpPr>
        <p:grpSpPr>
          <a:xfrm>
            <a:off x="1600200" y="2362320"/>
            <a:ext cx="6008760" cy="838080"/>
            <a:chOff x="1600200" y="2362320"/>
            <a:chExt cx="6008760" cy="838080"/>
          </a:xfrm>
        </p:grpSpPr>
        <p:grpSp>
          <p:nvGrpSpPr>
            <p:cNvPr id="508" name="Group 10"/>
            <p:cNvGrpSpPr/>
            <p:nvPr/>
          </p:nvGrpSpPr>
          <p:grpSpPr>
            <a:xfrm>
              <a:off x="1600200" y="2362320"/>
              <a:ext cx="6008760" cy="838080"/>
              <a:chOff x="1600200" y="2362320"/>
              <a:chExt cx="6008760" cy="838080"/>
            </a:xfrm>
          </p:grpSpPr>
          <p:grpSp>
            <p:nvGrpSpPr>
              <p:cNvPr id="509" name="Group 11"/>
              <p:cNvGrpSpPr/>
              <p:nvPr/>
            </p:nvGrpSpPr>
            <p:grpSpPr>
              <a:xfrm>
                <a:off x="1600200" y="2362320"/>
                <a:ext cx="6008760" cy="838080"/>
                <a:chOff x="1600200" y="2362320"/>
                <a:chExt cx="6008760" cy="838080"/>
              </a:xfrm>
            </p:grpSpPr>
            <p:sp>
              <p:nvSpPr>
                <p:cNvPr id="510" name="圆角矩形 24"/>
                <p:cNvSpPr/>
                <p:nvPr/>
              </p:nvSpPr>
              <p:spPr>
                <a:xfrm>
                  <a:off x="2122200" y="2486160"/>
                  <a:ext cx="5486760" cy="6094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2f2f2"/>
                </a:solidFill>
                <a:ln w="936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椭圆 25"/>
                <p:cNvSpPr/>
                <p:nvPr/>
              </p:nvSpPr>
              <p:spPr>
                <a:xfrm>
                  <a:off x="1600200" y="2362320"/>
                  <a:ext cx="838080" cy="838080"/>
                </a:xfrm>
                <a:prstGeom prst="ellipse">
                  <a:avLst/>
                </a:pr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" name="TextBox 23"/>
              <p:cNvSpPr/>
              <p:nvPr/>
            </p:nvSpPr>
            <p:spPr>
              <a:xfrm>
                <a:off x="2797200" y="2590920"/>
                <a:ext cx="440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添加文字标题或文字内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TextBox 21"/>
            <p:cNvSpPr/>
            <p:nvPr/>
          </p:nvSpPr>
          <p:spPr>
            <a:xfrm>
              <a:off x="1811160" y="2531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16"/>
          <p:cNvGrpSpPr/>
          <p:nvPr/>
        </p:nvGrpSpPr>
        <p:grpSpPr>
          <a:xfrm>
            <a:off x="1600200" y="3429000"/>
            <a:ext cx="6008760" cy="838080"/>
            <a:chOff x="1600200" y="3429000"/>
            <a:chExt cx="6008760" cy="838080"/>
          </a:xfrm>
        </p:grpSpPr>
        <p:grpSp>
          <p:nvGrpSpPr>
            <p:cNvPr id="515" name="Group 17"/>
            <p:cNvGrpSpPr/>
            <p:nvPr/>
          </p:nvGrpSpPr>
          <p:grpSpPr>
            <a:xfrm>
              <a:off x="1600200" y="3429000"/>
              <a:ext cx="6008760" cy="838080"/>
              <a:chOff x="1600200" y="3429000"/>
              <a:chExt cx="6008760" cy="838080"/>
            </a:xfrm>
          </p:grpSpPr>
          <p:grpSp>
            <p:nvGrpSpPr>
              <p:cNvPr id="516" name="Group 18"/>
              <p:cNvGrpSpPr/>
              <p:nvPr/>
            </p:nvGrpSpPr>
            <p:grpSpPr>
              <a:xfrm>
                <a:off x="1600200" y="3429000"/>
                <a:ext cx="6008760" cy="838080"/>
                <a:chOff x="1600200" y="3429000"/>
                <a:chExt cx="6008760" cy="838080"/>
              </a:xfrm>
            </p:grpSpPr>
            <p:sp>
              <p:nvSpPr>
                <p:cNvPr id="517" name="圆角矩形 31"/>
                <p:cNvSpPr/>
                <p:nvPr/>
              </p:nvSpPr>
              <p:spPr>
                <a:xfrm>
                  <a:off x="2122200" y="3552840"/>
                  <a:ext cx="5486760" cy="6094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2f2f2"/>
                </a:solidFill>
                <a:ln w="936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椭圆 32"/>
                <p:cNvSpPr/>
                <p:nvPr/>
              </p:nvSpPr>
              <p:spPr>
                <a:xfrm>
                  <a:off x="1600200" y="3429000"/>
                  <a:ext cx="838080" cy="838080"/>
                </a:xfrm>
                <a:prstGeom prst="ellipse">
                  <a:avLst/>
                </a:prstGeom>
                <a:solidFill>
                  <a:srgbClr val="92d050"/>
                </a:solidFill>
                <a:ln w="936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" name="TextBox 30"/>
              <p:cNvSpPr/>
              <p:nvPr/>
            </p:nvSpPr>
            <p:spPr>
              <a:xfrm>
                <a:off x="2797200" y="3657600"/>
                <a:ext cx="440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添加文字标题或文字内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TextBox 28"/>
            <p:cNvSpPr/>
            <p:nvPr/>
          </p:nvSpPr>
          <p:spPr>
            <a:xfrm>
              <a:off x="1811160" y="35985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23"/>
          <p:cNvGrpSpPr/>
          <p:nvPr/>
        </p:nvGrpSpPr>
        <p:grpSpPr>
          <a:xfrm>
            <a:off x="1600200" y="4495680"/>
            <a:ext cx="6008760" cy="838440"/>
            <a:chOff x="1600200" y="4495680"/>
            <a:chExt cx="6008760" cy="838440"/>
          </a:xfrm>
        </p:grpSpPr>
        <p:grpSp>
          <p:nvGrpSpPr>
            <p:cNvPr id="522" name="Group 24"/>
            <p:cNvGrpSpPr/>
            <p:nvPr/>
          </p:nvGrpSpPr>
          <p:grpSpPr>
            <a:xfrm>
              <a:off x="1600200" y="4495680"/>
              <a:ext cx="6008760" cy="838440"/>
              <a:chOff x="1600200" y="4495680"/>
              <a:chExt cx="6008760" cy="838440"/>
            </a:xfrm>
          </p:grpSpPr>
          <p:grpSp>
            <p:nvGrpSpPr>
              <p:cNvPr id="523" name="Group 25"/>
              <p:cNvGrpSpPr/>
              <p:nvPr/>
            </p:nvGrpSpPr>
            <p:grpSpPr>
              <a:xfrm>
                <a:off x="1600200" y="4495680"/>
                <a:ext cx="6008760" cy="838440"/>
                <a:chOff x="1600200" y="4495680"/>
                <a:chExt cx="6008760" cy="838440"/>
              </a:xfrm>
            </p:grpSpPr>
            <p:sp>
              <p:nvSpPr>
                <p:cNvPr id="524" name="圆角矩形 38"/>
                <p:cNvSpPr/>
                <p:nvPr/>
              </p:nvSpPr>
              <p:spPr>
                <a:xfrm>
                  <a:off x="2122200" y="4619520"/>
                  <a:ext cx="5486760" cy="609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2f2f2"/>
                </a:solidFill>
                <a:ln w="936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椭圆 39"/>
                <p:cNvSpPr/>
                <p:nvPr/>
              </p:nvSpPr>
              <p:spPr>
                <a:xfrm>
                  <a:off x="1600200" y="4495680"/>
                  <a:ext cx="838080" cy="838440"/>
                </a:xfrm>
                <a:prstGeom prst="ellipse">
                  <a:avLst/>
                </a:prstGeom>
                <a:solidFill>
                  <a:srgbClr val="92d050"/>
                </a:solidFill>
                <a:ln w="936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" name="TextBox 37"/>
              <p:cNvSpPr/>
              <p:nvPr/>
            </p:nvSpPr>
            <p:spPr>
              <a:xfrm>
                <a:off x="2797200" y="4724280"/>
                <a:ext cx="440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添加文字标题或文字内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TextBox 35"/>
            <p:cNvSpPr/>
            <p:nvPr/>
          </p:nvSpPr>
          <p:spPr>
            <a:xfrm>
              <a:off x="1811160" y="4665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椭圆 7"/>
          <p:cNvSpPr/>
          <p:nvPr/>
        </p:nvSpPr>
        <p:spPr>
          <a:xfrm>
            <a:off x="2895480" y="2224080"/>
            <a:ext cx="2971800" cy="2971800"/>
          </a:xfrm>
          <a:prstGeom prst="ellipse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3"/>
          <p:cNvGrpSpPr/>
          <p:nvPr/>
        </p:nvGrpSpPr>
        <p:grpSpPr>
          <a:xfrm>
            <a:off x="4952880" y="1676520"/>
            <a:ext cx="2765520" cy="942840"/>
            <a:chOff x="4952880" y="1676520"/>
            <a:chExt cx="2765520" cy="942840"/>
          </a:xfrm>
        </p:grpSpPr>
        <p:sp>
          <p:nvSpPr>
            <p:cNvPr id="530" name="圆角矩形 2"/>
            <p:cNvSpPr/>
            <p:nvPr/>
          </p:nvSpPr>
          <p:spPr>
            <a:xfrm>
              <a:off x="4952880" y="1676520"/>
              <a:ext cx="2765520" cy="94284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11"/>
            <p:cNvSpPr/>
            <p:nvPr/>
          </p:nvSpPr>
          <p:spPr>
            <a:xfrm>
              <a:off x="5230440" y="1839240"/>
              <a:ext cx="222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或文字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6"/>
          <p:cNvGrpSpPr/>
          <p:nvPr/>
        </p:nvGrpSpPr>
        <p:grpSpPr>
          <a:xfrm>
            <a:off x="3809880" y="1600200"/>
            <a:ext cx="1328760" cy="1266840"/>
            <a:chOff x="3809880" y="1600200"/>
            <a:chExt cx="1328760" cy="1266840"/>
          </a:xfrm>
        </p:grpSpPr>
        <p:sp>
          <p:nvSpPr>
            <p:cNvPr id="533" name="椭圆 1"/>
            <p:cNvSpPr/>
            <p:nvPr/>
          </p:nvSpPr>
          <p:spPr>
            <a:xfrm>
              <a:off x="3809880" y="1600200"/>
              <a:ext cx="1265400" cy="126684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6"/>
            <p:cNvSpPr/>
            <p:nvPr/>
          </p:nvSpPr>
          <p:spPr>
            <a:xfrm>
              <a:off x="4100040" y="1919160"/>
              <a:ext cx="1038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9"/>
          <p:cNvGrpSpPr/>
          <p:nvPr/>
        </p:nvGrpSpPr>
        <p:grpSpPr>
          <a:xfrm>
            <a:off x="6149880" y="4114800"/>
            <a:ext cx="2765520" cy="942840"/>
            <a:chOff x="6149880" y="4114800"/>
            <a:chExt cx="2765520" cy="942840"/>
          </a:xfrm>
        </p:grpSpPr>
        <p:sp>
          <p:nvSpPr>
            <p:cNvPr id="536" name="圆角矩形 47"/>
            <p:cNvSpPr/>
            <p:nvPr/>
          </p:nvSpPr>
          <p:spPr>
            <a:xfrm>
              <a:off x="6149880" y="4114800"/>
              <a:ext cx="2765520" cy="94284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48"/>
            <p:cNvSpPr/>
            <p:nvPr/>
          </p:nvSpPr>
          <p:spPr>
            <a:xfrm>
              <a:off x="6427440" y="4277520"/>
              <a:ext cx="222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或文字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2"/>
          <p:cNvGrpSpPr/>
          <p:nvPr/>
        </p:nvGrpSpPr>
        <p:grpSpPr>
          <a:xfrm>
            <a:off x="304920" y="4267080"/>
            <a:ext cx="2765160" cy="943200"/>
            <a:chOff x="304920" y="4267080"/>
            <a:chExt cx="2765160" cy="943200"/>
          </a:xfrm>
        </p:grpSpPr>
        <p:sp>
          <p:nvSpPr>
            <p:cNvPr id="539" name="圆角矩形 53"/>
            <p:cNvSpPr/>
            <p:nvPr/>
          </p:nvSpPr>
          <p:spPr>
            <a:xfrm>
              <a:off x="304920" y="4267080"/>
              <a:ext cx="2765160" cy="94320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54"/>
            <p:cNvSpPr/>
            <p:nvPr/>
          </p:nvSpPr>
          <p:spPr>
            <a:xfrm>
              <a:off x="582480" y="4429800"/>
              <a:ext cx="222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或文字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15"/>
          <p:cNvGrpSpPr/>
          <p:nvPr/>
        </p:nvGrpSpPr>
        <p:grpSpPr>
          <a:xfrm>
            <a:off x="2684520" y="3809880"/>
            <a:ext cx="1278000" cy="1266840"/>
            <a:chOff x="2684520" y="3809880"/>
            <a:chExt cx="1278000" cy="1266840"/>
          </a:xfrm>
        </p:grpSpPr>
        <p:sp>
          <p:nvSpPr>
            <p:cNvPr id="542" name="椭圆 50"/>
            <p:cNvSpPr/>
            <p:nvPr/>
          </p:nvSpPr>
          <p:spPr>
            <a:xfrm>
              <a:off x="2684520" y="3809880"/>
              <a:ext cx="1265400" cy="126684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51"/>
            <p:cNvSpPr/>
            <p:nvPr/>
          </p:nvSpPr>
          <p:spPr>
            <a:xfrm>
              <a:off x="2974680" y="4139640"/>
              <a:ext cx="98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18"/>
          <p:cNvGrpSpPr/>
          <p:nvPr/>
        </p:nvGrpSpPr>
        <p:grpSpPr>
          <a:xfrm>
            <a:off x="5029200" y="3838680"/>
            <a:ext cx="1278000" cy="1266840"/>
            <a:chOff x="5029200" y="3838680"/>
            <a:chExt cx="1278000" cy="1266840"/>
          </a:xfrm>
        </p:grpSpPr>
        <p:sp>
          <p:nvSpPr>
            <p:cNvPr id="545" name="椭圆 44"/>
            <p:cNvSpPr/>
            <p:nvPr/>
          </p:nvSpPr>
          <p:spPr>
            <a:xfrm>
              <a:off x="5029200" y="3838680"/>
              <a:ext cx="1265400" cy="126684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45"/>
            <p:cNvSpPr/>
            <p:nvPr/>
          </p:nvSpPr>
          <p:spPr>
            <a:xfrm>
              <a:off x="5319360" y="4168440"/>
              <a:ext cx="98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2"/>
          <p:cNvGrpSpPr/>
          <p:nvPr/>
        </p:nvGrpSpPr>
        <p:grpSpPr>
          <a:xfrm>
            <a:off x="533520" y="3581280"/>
            <a:ext cx="2020680" cy="871560"/>
            <a:chOff x="533520" y="3581280"/>
            <a:chExt cx="2020680" cy="871560"/>
          </a:xfrm>
        </p:grpSpPr>
        <p:sp>
          <p:nvSpPr>
            <p:cNvPr id="548" name="圆角矩形 2"/>
            <p:cNvSpPr/>
            <p:nvPr/>
          </p:nvSpPr>
          <p:spPr>
            <a:xfrm>
              <a:off x="533520" y="3581280"/>
              <a:ext cx="2020680" cy="87156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11"/>
            <p:cNvSpPr/>
            <p:nvPr/>
          </p:nvSpPr>
          <p:spPr>
            <a:xfrm>
              <a:off x="736200" y="3795120"/>
              <a:ext cx="1623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或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50" name="直接箭头连接符 8"/>
          <p:cNvCxnSpPr/>
          <p:nvPr/>
        </p:nvCxnSpPr>
        <p:spPr>
          <a:xfrm>
            <a:off x="685800" y="3428640"/>
            <a:ext cx="7849440" cy="10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grpSp>
        <p:nvGrpSpPr>
          <p:cNvPr id="551" name="Group 6"/>
          <p:cNvGrpSpPr/>
          <p:nvPr/>
        </p:nvGrpSpPr>
        <p:grpSpPr>
          <a:xfrm>
            <a:off x="982800" y="1828800"/>
            <a:ext cx="1023840" cy="1523880"/>
            <a:chOff x="982800" y="1828800"/>
            <a:chExt cx="1023840" cy="1523880"/>
          </a:xfrm>
        </p:grpSpPr>
        <p:grpSp>
          <p:nvGrpSpPr>
            <p:cNvPr id="552" name="Group 7"/>
            <p:cNvGrpSpPr/>
            <p:nvPr/>
          </p:nvGrpSpPr>
          <p:grpSpPr>
            <a:xfrm>
              <a:off x="982800" y="1828800"/>
              <a:ext cx="1023840" cy="1023120"/>
              <a:chOff x="982800" y="1828800"/>
              <a:chExt cx="1023840" cy="1023120"/>
            </a:xfrm>
          </p:grpSpPr>
          <p:sp>
            <p:nvSpPr>
              <p:cNvPr id="553" name="椭圆 1"/>
              <p:cNvSpPr/>
              <p:nvPr/>
            </p:nvSpPr>
            <p:spPr>
              <a:xfrm>
                <a:off x="982800" y="1828800"/>
                <a:ext cx="1023840" cy="102312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TextBox 6"/>
              <p:cNvSpPr/>
              <p:nvPr/>
            </p:nvSpPr>
            <p:spPr>
              <a:xfrm>
                <a:off x="1112040" y="2086200"/>
                <a:ext cx="840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0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直接连接符 10"/>
            <p:cNvSpPr/>
            <p:nvPr/>
          </p:nvSpPr>
          <p:spPr>
            <a:xfrm>
              <a:off x="1476360" y="2819520"/>
              <a:ext cx="0" cy="533160"/>
            </a:xfrm>
            <a:prstGeom prst="line">
              <a:avLst/>
            </a:prstGeom>
            <a:ln w="19080">
              <a:solidFill>
                <a:srgbClr val="92d05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1"/>
          <p:cNvGrpSpPr/>
          <p:nvPr/>
        </p:nvGrpSpPr>
        <p:grpSpPr>
          <a:xfrm>
            <a:off x="2938320" y="3504960"/>
            <a:ext cx="1024200" cy="1523880"/>
            <a:chOff x="2938320" y="3504960"/>
            <a:chExt cx="1024200" cy="1523880"/>
          </a:xfrm>
        </p:grpSpPr>
        <p:grpSp>
          <p:nvGrpSpPr>
            <p:cNvPr id="557" name="Group 12"/>
            <p:cNvGrpSpPr/>
            <p:nvPr/>
          </p:nvGrpSpPr>
          <p:grpSpPr>
            <a:xfrm>
              <a:off x="2938320" y="4005000"/>
              <a:ext cx="1024200" cy="1023840"/>
              <a:chOff x="2938320" y="4005000"/>
              <a:chExt cx="1024200" cy="1023840"/>
            </a:xfrm>
          </p:grpSpPr>
          <p:sp>
            <p:nvSpPr>
              <p:cNvPr id="558" name="椭圆 30"/>
              <p:cNvSpPr/>
              <p:nvPr/>
            </p:nvSpPr>
            <p:spPr>
              <a:xfrm flipV="1">
                <a:off x="2938320" y="4005000"/>
                <a:ext cx="1024200" cy="102384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Box 31"/>
              <p:cNvSpPr/>
              <p:nvPr/>
            </p:nvSpPr>
            <p:spPr>
              <a:xfrm>
                <a:off x="3047760" y="4230720"/>
                <a:ext cx="840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1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直接连接符 29"/>
            <p:cNvSpPr/>
            <p:nvPr/>
          </p:nvSpPr>
          <p:spPr>
            <a:xfrm flipV="1">
              <a:off x="3432240" y="3504960"/>
              <a:ext cx="0" cy="533160"/>
            </a:xfrm>
            <a:prstGeom prst="line">
              <a:avLst/>
            </a:prstGeom>
            <a:ln w="19080">
              <a:solidFill>
                <a:srgbClr val="92d05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16"/>
          <p:cNvGrpSpPr/>
          <p:nvPr/>
        </p:nvGrpSpPr>
        <p:grpSpPr>
          <a:xfrm>
            <a:off x="2514600" y="2328840"/>
            <a:ext cx="2021040" cy="871560"/>
            <a:chOff x="2514600" y="2328840"/>
            <a:chExt cx="2021040" cy="871560"/>
          </a:xfrm>
        </p:grpSpPr>
        <p:sp>
          <p:nvSpPr>
            <p:cNvPr id="562" name="圆角矩形 33"/>
            <p:cNvSpPr/>
            <p:nvPr/>
          </p:nvSpPr>
          <p:spPr>
            <a:xfrm>
              <a:off x="2514600" y="2328840"/>
              <a:ext cx="2021040" cy="87156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34"/>
            <p:cNvSpPr/>
            <p:nvPr/>
          </p:nvSpPr>
          <p:spPr>
            <a:xfrm>
              <a:off x="2717280" y="2542680"/>
              <a:ext cx="1624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或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19"/>
          <p:cNvGrpSpPr/>
          <p:nvPr/>
        </p:nvGrpSpPr>
        <p:grpSpPr>
          <a:xfrm>
            <a:off x="4419720" y="3657600"/>
            <a:ext cx="2020680" cy="871560"/>
            <a:chOff x="4419720" y="3657600"/>
            <a:chExt cx="2020680" cy="871560"/>
          </a:xfrm>
        </p:grpSpPr>
        <p:sp>
          <p:nvSpPr>
            <p:cNvPr id="565" name="圆角矩形 36"/>
            <p:cNvSpPr/>
            <p:nvPr/>
          </p:nvSpPr>
          <p:spPr>
            <a:xfrm>
              <a:off x="4419720" y="3657600"/>
              <a:ext cx="2020680" cy="87156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37"/>
            <p:cNvSpPr/>
            <p:nvPr/>
          </p:nvSpPr>
          <p:spPr>
            <a:xfrm>
              <a:off x="4622400" y="3871440"/>
              <a:ext cx="1623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或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22"/>
          <p:cNvGrpSpPr/>
          <p:nvPr/>
        </p:nvGrpSpPr>
        <p:grpSpPr>
          <a:xfrm>
            <a:off x="4869000" y="1828800"/>
            <a:ext cx="1023840" cy="1523880"/>
            <a:chOff x="4869000" y="1828800"/>
            <a:chExt cx="1023840" cy="1523880"/>
          </a:xfrm>
        </p:grpSpPr>
        <p:grpSp>
          <p:nvGrpSpPr>
            <p:cNvPr id="568" name="Group 23"/>
            <p:cNvGrpSpPr/>
            <p:nvPr/>
          </p:nvGrpSpPr>
          <p:grpSpPr>
            <a:xfrm>
              <a:off x="4869000" y="1828800"/>
              <a:ext cx="1023840" cy="1023120"/>
              <a:chOff x="4869000" y="1828800"/>
              <a:chExt cx="1023840" cy="1023120"/>
            </a:xfrm>
          </p:grpSpPr>
          <p:sp>
            <p:nvSpPr>
              <p:cNvPr id="569" name="椭圆 41"/>
              <p:cNvSpPr/>
              <p:nvPr/>
            </p:nvSpPr>
            <p:spPr>
              <a:xfrm>
                <a:off x="4869000" y="1828800"/>
                <a:ext cx="1023840" cy="102312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Box 42"/>
              <p:cNvSpPr/>
              <p:nvPr/>
            </p:nvSpPr>
            <p:spPr>
              <a:xfrm>
                <a:off x="4998240" y="2086200"/>
                <a:ext cx="840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3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直接连接符 40"/>
            <p:cNvSpPr/>
            <p:nvPr/>
          </p:nvSpPr>
          <p:spPr>
            <a:xfrm>
              <a:off x="5362560" y="2819520"/>
              <a:ext cx="0" cy="533160"/>
            </a:xfrm>
            <a:prstGeom prst="line">
              <a:avLst/>
            </a:prstGeom>
            <a:ln w="19080">
              <a:solidFill>
                <a:srgbClr val="92d05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27"/>
          <p:cNvGrpSpPr/>
          <p:nvPr/>
        </p:nvGrpSpPr>
        <p:grpSpPr>
          <a:xfrm>
            <a:off x="7010280" y="3504960"/>
            <a:ext cx="1024200" cy="1523880"/>
            <a:chOff x="7010280" y="3504960"/>
            <a:chExt cx="1024200" cy="1523880"/>
          </a:xfrm>
        </p:grpSpPr>
        <p:grpSp>
          <p:nvGrpSpPr>
            <p:cNvPr id="573" name="Group 28"/>
            <p:cNvGrpSpPr/>
            <p:nvPr/>
          </p:nvGrpSpPr>
          <p:grpSpPr>
            <a:xfrm>
              <a:off x="7010280" y="4005720"/>
              <a:ext cx="1024200" cy="1023120"/>
              <a:chOff x="7010280" y="4005720"/>
              <a:chExt cx="1024200" cy="1023120"/>
            </a:xfrm>
          </p:grpSpPr>
          <p:sp>
            <p:nvSpPr>
              <p:cNvPr id="574" name="椭圆 59"/>
              <p:cNvSpPr/>
              <p:nvPr/>
            </p:nvSpPr>
            <p:spPr>
              <a:xfrm flipV="1">
                <a:off x="7010280" y="4005720"/>
                <a:ext cx="1024200" cy="102312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Box 60"/>
              <p:cNvSpPr/>
              <p:nvPr/>
            </p:nvSpPr>
            <p:spPr>
              <a:xfrm>
                <a:off x="7139520" y="4230720"/>
                <a:ext cx="840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5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直接连接符 58"/>
            <p:cNvSpPr/>
            <p:nvPr/>
          </p:nvSpPr>
          <p:spPr>
            <a:xfrm flipV="1">
              <a:off x="7504200" y="3504960"/>
              <a:ext cx="0" cy="533160"/>
            </a:xfrm>
            <a:prstGeom prst="line">
              <a:avLst/>
            </a:prstGeom>
            <a:ln w="19080">
              <a:solidFill>
                <a:srgbClr val="92d05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32"/>
          <p:cNvGrpSpPr/>
          <p:nvPr/>
        </p:nvGrpSpPr>
        <p:grpSpPr>
          <a:xfrm>
            <a:off x="6586560" y="2252520"/>
            <a:ext cx="2021040" cy="871560"/>
            <a:chOff x="6586560" y="2252520"/>
            <a:chExt cx="2021040" cy="871560"/>
          </a:xfrm>
        </p:grpSpPr>
        <p:sp>
          <p:nvSpPr>
            <p:cNvPr id="578" name="圆角矩形 62"/>
            <p:cNvSpPr/>
            <p:nvPr/>
          </p:nvSpPr>
          <p:spPr>
            <a:xfrm>
              <a:off x="6586560" y="2252520"/>
              <a:ext cx="2021040" cy="87156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Box 63"/>
            <p:cNvSpPr/>
            <p:nvPr/>
          </p:nvSpPr>
          <p:spPr>
            <a:xfrm>
              <a:off x="6789240" y="2466360"/>
              <a:ext cx="1624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或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3852720" y="3835440"/>
            <a:ext cx="1405080" cy="1404720"/>
            <a:chOff x="3852720" y="3835440"/>
            <a:chExt cx="1405080" cy="1404720"/>
          </a:xfrm>
        </p:grpSpPr>
        <p:sp>
          <p:nvSpPr>
            <p:cNvPr id="581" name="椭圆 1"/>
            <p:cNvSpPr/>
            <p:nvPr/>
          </p:nvSpPr>
          <p:spPr>
            <a:xfrm>
              <a:off x="3852720" y="3835440"/>
              <a:ext cx="1405080" cy="140472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Box 6"/>
            <p:cNvSpPr/>
            <p:nvPr/>
          </p:nvSpPr>
          <p:spPr>
            <a:xfrm>
              <a:off x="4030200" y="437112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5"/>
          <p:cNvGrpSpPr/>
          <p:nvPr/>
        </p:nvGrpSpPr>
        <p:grpSpPr>
          <a:xfrm>
            <a:off x="1371600" y="3429000"/>
            <a:ext cx="1143000" cy="1143000"/>
            <a:chOff x="1371600" y="3429000"/>
            <a:chExt cx="1143000" cy="1143000"/>
          </a:xfrm>
        </p:grpSpPr>
        <p:sp>
          <p:nvSpPr>
            <p:cNvPr id="584" name="椭圆 50"/>
            <p:cNvSpPr/>
            <p:nvPr/>
          </p:nvSpPr>
          <p:spPr>
            <a:xfrm>
              <a:off x="1371600" y="3429000"/>
              <a:ext cx="1143000" cy="114300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Box 51"/>
            <p:cNvSpPr/>
            <p:nvPr/>
          </p:nvSpPr>
          <p:spPr>
            <a:xfrm>
              <a:off x="1515960" y="373356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8"/>
          <p:cNvGrpSpPr/>
          <p:nvPr/>
        </p:nvGrpSpPr>
        <p:grpSpPr>
          <a:xfrm>
            <a:off x="2895480" y="2133720"/>
            <a:ext cx="1143000" cy="1143000"/>
            <a:chOff x="2895480" y="2133720"/>
            <a:chExt cx="1143000" cy="1143000"/>
          </a:xfrm>
        </p:grpSpPr>
        <p:sp>
          <p:nvSpPr>
            <p:cNvPr id="587" name="椭圆 53"/>
            <p:cNvSpPr/>
            <p:nvPr/>
          </p:nvSpPr>
          <p:spPr>
            <a:xfrm>
              <a:off x="2895480" y="2133720"/>
              <a:ext cx="1143000" cy="114300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Box 54"/>
            <p:cNvSpPr/>
            <p:nvPr/>
          </p:nvSpPr>
          <p:spPr>
            <a:xfrm>
              <a:off x="3039840" y="243828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1"/>
          <p:cNvGrpSpPr/>
          <p:nvPr/>
        </p:nvGrpSpPr>
        <p:grpSpPr>
          <a:xfrm>
            <a:off x="5029200" y="2133720"/>
            <a:ext cx="1143000" cy="1143000"/>
            <a:chOff x="5029200" y="2133720"/>
            <a:chExt cx="1143000" cy="1143000"/>
          </a:xfrm>
        </p:grpSpPr>
        <p:sp>
          <p:nvSpPr>
            <p:cNvPr id="590" name="椭圆 65"/>
            <p:cNvSpPr/>
            <p:nvPr/>
          </p:nvSpPr>
          <p:spPr>
            <a:xfrm>
              <a:off x="5029200" y="2133720"/>
              <a:ext cx="1143000" cy="114300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Box 66"/>
            <p:cNvSpPr/>
            <p:nvPr/>
          </p:nvSpPr>
          <p:spPr>
            <a:xfrm>
              <a:off x="5173560" y="243828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14"/>
          <p:cNvGrpSpPr/>
          <p:nvPr/>
        </p:nvGrpSpPr>
        <p:grpSpPr>
          <a:xfrm>
            <a:off x="6477120" y="3429000"/>
            <a:ext cx="1143000" cy="1143000"/>
            <a:chOff x="6477120" y="3429000"/>
            <a:chExt cx="1143000" cy="1143000"/>
          </a:xfrm>
        </p:grpSpPr>
        <p:sp>
          <p:nvSpPr>
            <p:cNvPr id="593" name="椭圆 68"/>
            <p:cNvSpPr/>
            <p:nvPr/>
          </p:nvSpPr>
          <p:spPr>
            <a:xfrm>
              <a:off x="6477120" y="3429000"/>
              <a:ext cx="1143000" cy="114300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69"/>
            <p:cNvSpPr/>
            <p:nvPr/>
          </p:nvSpPr>
          <p:spPr>
            <a:xfrm>
              <a:off x="6621480" y="373356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5" name="直接箭头连接符 7"/>
          <p:cNvCxnSpPr>
            <a:stCxn id="581" idx="2"/>
          </p:cNvCxnSpPr>
          <p:nvPr/>
        </p:nvCxnSpPr>
        <p:spPr>
          <a:xfrm flipH="1" flipV="1">
            <a:off x="2542680" y="4190400"/>
            <a:ext cx="1310400" cy="34668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596" name="直接箭头连接符 13"/>
          <p:cNvCxnSpPr/>
          <p:nvPr/>
        </p:nvCxnSpPr>
        <p:spPr>
          <a:xfrm flipH="1" flipV="1">
            <a:off x="3657240" y="3199680"/>
            <a:ext cx="534240" cy="7628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597" name="直接箭头连接符 16"/>
          <p:cNvCxnSpPr>
            <a:stCxn id="581" idx="7"/>
          </p:cNvCxnSpPr>
          <p:nvPr/>
        </p:nvCxnSpPr>
        <p:spPr>
          <a:xfrm flipV="1">
            <a:off x="5051520" y="3199680"/>
            <a:ext cx="358920" cy="8420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598" name="直接箭头连接符 18"/>
          <p:cNvCxnSpPr/>
          <p:nvPr/>
        </p:nvCxnSpPr>
        <p:spPr>
          <a:xfrm flipV="1">
            <a:off x="5257800" y="4190760"/>
            <a:ext cx="1296000" cy="38160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599" name="TextBox 76"/>
          <p:cNvSpPr/>
          <p:nvPr/>
        </p:nvSpPr>
        <p:spPr>
          <a:xfrm>
            <a:off x="279360" y="291312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字标题或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77"/>
          <p:cNvSpPr/>
          <p:nvPr/>
        </p:nvSpPr>
        <p:spPr>
          <a:xfrm>
            <a:off x="1805040" y="15238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字标题或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78"/>
          <p:cNvSpPr/>
          <p:nvPr/>
        </p:nvSpPr>
        <p:spPr>
          <a:xfrm>
            <a:off x="5867280" y="160020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字标题或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79"/>
          <p:cNvSpPr/>
          <p:nvPr/>
        </p:nvSpPr>
        <p:spPr>
          <a:xfrm>
            <a:off x="7315200" y="304812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字标题或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Group 2"/>
          <p:cNvGrpSpPr/>
          <p:nvPr/>
        </p:nvGrpSpPr>
        <p:grpSpPr>
          <a:xfrm>
            <a:off x="304920" y="1523880"/>
            <a:ext cx="8636040" cy="3461040"/>
            <a:chOff x="304920" y="1523880"/>
            <a:chExt cx="8636040" cy="3461040"/>
          </a:xfrm>
        </p:grpSpPr>
        <p:grpSp>
          <p:nvGrpSpPr>
            <p:cNvPr id="604" name="Group 3"/>
            <p:cNvGrpSpPr/>
            <p:nvPr/>
          </p:nvGrpSpPr>
          <p:grpSpPr>
            <a:xfrm>
              <a:off x="3305880" y="1523880"/>
              <a:ext cx="2256840" cy="627480"/>
              <a:chOff x="3305880" y="1523880"/>
              <a:chExt cx="2256840" cy="627480"/>
            </a:xfrm>
          </p:grpSpPr>
          <p:sp>
            <p:nvSpPr>
              <p:cNvPr id="605" name="圆角矩形 25"/>
              <p:cNvSpPr/>
              <p:nvPr/>
            </p:nvSpPr>
            <p:spPr>
              <a:xfrm>
                <a:off x="3305880" y="1523880"/>
                <a:ext cx="225684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92d050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TextBox 26"/>
              <p:cNvSpPr/>
              <p:nvPr/>
            </p:nvSpPr>
            <p:spPr>
              <a:xfrm>
                <a:off x="3559320" y="1626120"/>
                <a:ext cx="182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6"/>
            <p:cNvGrpSpPr/>
            <p:nvPr/>
          </p:nvGrpSpPr>
          <p:grpSpPr>
            <a:xfrm>
              <a:off x="1455120" y="2815200"/>
              <a:ext cx="2256840" cy="627480"/>
              <a:chOff x="1455120" y="2815200"/>
              <a:chExt cx="2256840" cy="627480"/>
            </a:xfrm>
          </p:grpSpPr>
          <p:sp>
            <p:nvSpPr>
              <p:cNvPr id="608" name="圆角矩形 29"/>
              <p:cNvSpPr/>
              <p:nvPr/>
            </p:nvSpPr>
            <p:spPr>
              <a:xfrm>
                <a:off x="1455120" y="2815200"/>
                <a:ext cx="225684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TextBox 30"/>
              <p:cNvSpPr/>
              <p:nvPr/>
            </p:nvSpPr>
            <p:spPr>
              <a:xfrm>
                <a:off x="1707840" y="2916720"/>
                <a:ext cx="182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Group 9"/>
            <p:cNvGrpSpPr/>
            <p:nvPr/>
          </p:nvGrpSpPr>
          <p:grpSpPr>
            <a:xfrm>
              <a:off x="5036760" y="2815200"/>
              <a:ext cx="2256840" cy="627480"/>
              <a:chOff x="5036760" y="2815200"/>
              <a:chExt cx="2256840" cy="627480"/>
            </a:xfrm>
          </p:grpSpPr>
          <p:sp>
            <p:nvSpPr>
              <p:cNvPr id="611" name="圆角矩形 32"/>
              <p:cNvSpPr/>
              <p:nvPr/>
            </p:nvSpPr>
            <p:spPr>
              <a:xfrm>
                <a:off x="5036760" y="2815200"/>
                <a:ext cx="225684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TextBox 33"/>
              <p:cNvSpPr/>
              <p:nvPr/>
            </p:nvSpPr>
            <p:spPr>
              <a:xfrm>
                <a:off x="5289480" y="2916720"/>
                <a:ext cx="182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Group 12"/>
            <p:cNvGrpSpPr/>
            <p:nvPr/>
          </p:nvGrpSpPr>
          <p:grpSpPr>
            <a:xfrm>
              <a:off x="304920" y="4357440"/>
              <a:ext cx="1854000" cy="627480"/>
              <a:chOff x="304920" y="4357440"/>
              <a:chExt cx="1854000" cy="627480"/>
            </a:xfrm>
          </p:grpSpPr>
          <p:sp>
            <p:nvSpPr>
              <p:cNvPr id="614" name="圆角矩形 35"/>
              <p:cNvSpPr/>
              <p:nvPr/>
            </p:nvSpPr>
            <p:spPr>
              <a:xfrm>
                <a:off x="304920" y="4357440"/>
                <a:ext cx="185400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TextBox 36"/>
              <p:cNvSpPr/>
              <p:nvPr/>
            </p:nvSpPr>
            <p:spPr>
              <a:xfrm>
                <a:off x="513000" y="4459320"/>
                <a:ext cx="14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Group 15"/>
            <p:cNvGrpSpPr/>
            <p:nvPr/>
          </p:nvGrpSpPr>
          <p:grpSpPr>
            <a:xfrm>
              <a:off x="2565360" y="4357440"/>
              <a:ext cx="1854000" cy="627480"/>
              <a:chOff x="2565360" y="4357440"/>
              <a:chExt cx="1854000" cy="627480"/>
            </a:xfrm>
          </p:grpSpPr>
          <p:sp>
            <p:nvSpPr>
              <p:cNvPr id="617" name="圆角矩形 38"/>
              <p:cNvSpPr/>
              <p:nvPr/>
            </p:nvSpPr>
            <p:spPr>
              <a:xfrm>
                <a:off x="2565360" y="4357440"/>
                <a:ext cx="185400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TextBox 39"/>
              <p:cNvSpPr/>
              <p:nvPr/>
            </p:nvSpPr>
            <p:spPr>
              <a:xfrm>
                <a:off x="2773440" y="4459320"/>
                <a:ext cx="14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18"/>
            <p:cNvGrpSpPr/>
            <p:nvPr/>
          </p:nvGrpSpPr>
          <p:grpSpPr>
            <a:xfrm>
              <a:off x="4826160" y="4357440"/>
              <a:ext cx="1854000" cy="627480"/>
              <a:chOff x="4826160" y="4357440"/>
              <a:chExt cx="1854000" cy="627480"/>
            </a:xfrm>
          </p:grpSpPr>
          <p:sp>
            <p:nvSpPr>
              <p:cNvPr id="620" name="圆角矩形 41"/>
              <p:cNvSpPr/>
              <p:nvPr/>
            </p:nvSpPr>
            <p:spPr>
              <a:xfrm>
                <a:off x="4826160" y="4357440"/>
                <a:ext cx="185400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TextBox 42"/>
              <p:cNvSpPr/>
              <p:nvPr/>
            </p:nvSpPr>
            <p:spPr>
              <a:xfrm>
                <a:off x="5034240" y="4459320"/>
                <a:ext cx="14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Group 21"/>
            <p:cNvGrpSpPr/>
            <p:nvPr/>
          </p:nvGrpSpPr>
          <p:grpSpPr>
            <a:xfrm>
              <a:off x="7086960" y="4357440"/>
              <a:ext cx="1854000" cy="627480"/>
              <a:chOff x="7086960" y="4357440"/>
              <a:chExt cx="1854000" cy="627480"/>
            </a:xfrm>
          </p:grpSpPr>
          <p:sp>
            <p:nvSpPr>
              <p:cNvPr id="623" name="圆角矩形 44"/>
              <p:cNvSpPr/>
              <p:nvPr/>
            </p:nvSpPr>
            <p:spPr>
              <a:xfrm>
                <a:off x="7086960" y="4357440"/>
                <a:ext cx="185400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TextBox 45"/>
              <p:cNvSpPr/>
              <p:nvPr/>
            </p:nvSpPr>
            <p:spPr>
              <a:xfrm>
                <a:off x="7295040" y="4459320"/>
                <a:ext cx="14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25" name="肘形连接符 9"/>
            <p:cNvCxnSpPr>
              <a:stCxn id="605" idx="2"/>
              <a:endCxn id="608" idx="0"/>
            </p:cNvCxnSpPr>
            <p:nvPr/>
          </p:nvCxnSpPr>
          <p:spPr>
            <a:xfrm rot="5400000">
              <a:off x="3175200" y="1558080"/>
              <a:ext cx="665640" cy="1851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92d050"/>
              </a:solidFill>
              <a:miter/>
              <a:tailEnd len="med" type="triangle" w="med"/>
            </a:ln>
          </p:spPr>
        </p:cxnSp>
        <p:cxnSp>
          <p:nvCxnSpPr>
            <p:cNvPr id="626" name="肘形连接符 11"/>
            <p:cNvCxnSpPr>
              <a:stCxn id="605" idx="2"/>
              <a:endCxn id="611" idx="0"/>
            </p:cNvCxnSpPr>
            <p:nvPr/>
          </p:nvCxnSpPr>
          <p:spPr>
            <a:xfrm flipH="1" rot="16200000">
              <a:off x="4966560" y="1618200"/>
              <a:ext cx="665640" cy="1730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92d050"/>
              </a:solidFill>
              <a:miter/>
              <a:tailEnd len="med" type="triangle" w="med"/>
            </a:ln>
          </p:spPr>
        </p:cxnSp>
        <p:cxnSp>
          <p:nvCxnSpPr>
            <p:cNvPr id="627" name="肘形连接符 15"/>
            <p:cNvCxnSpPr>
              <a:stCxn id="608" idx="2"/>
              <a:endCxn id="614" idx="0"/>
            </p:cNvCxnSpPr>
            <p:nvPr/>
          </p:nvCxnSpPr>
          <p:spPr>
            <a:xfrm rot="5400000">
              <a:off x="1450080" y="3224160"/>
              <a:ext cx="914760" cy="1352160"/>
            </a:xfrm>
            <a:prstGeom prst="bentConnector3">
              <a:avLst>
                <a:gd name="adj1" fmla="val 50000"/>
              </a:avLst>
            </a:prstGeom>
            <a:ln w="6480">
              <a:solidFill>
                <a:srgbClr val="92d050"/>
              </a:solidFill>
              <a:miter/>
              <a:tailEnd len="med" type="triangle" w="med"/>
            </a:ln>
          </p:spPr>
        </p:cxnSp>
        <p:cxnSp>
          <p:nvCxnSpPr>
            <p:cNvPr id="628" name="肘形连接符 19"/>
            <p:cNvCxnSpPr>
              <a:stCxn id="608" idx="2"/>
              <a:endCxn id="617" idx="0"/>
            </p:cNvCxnSpPr>
            <p:nvPr/>
          </p:nvCxnSpPr>
          <p:spPr>
            <a:xfrm flipH="1" rot="16200000">
              <a:off x="2580840" y="3445200"/>
              <a:ext cx="914760" cy="9093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92d050"/>
              </a:solidFill>
              <a:miter/>
              <a:tailEnd len="med" type="triangle" w="med"/>
            </a:ln>
          </p:spPr>
        </p:cxnSp>
        <p:cxnSp>
          <p:nvCxnSpPr>
            <p:cNvPr id="629" name="肘形连接符 21"/>
            <p:cNvCxnSpPr>
              <a:stCxn id="611" idx="2"/>
              <a:endCxn id="620" idx="0"/>
            </p:cNvCxnSpPr>
            <p:nvPr/>
          </p:nvCxnSpPr>
          <p:spPr>
            <a:xfrm rot="5400000">
              <a:off x="5501520" y="3693960"/>
              <a:ext cx="914760" cy="412560"/>
            </a:xfrm>
            <a:prstGeom prst="bentConnector3">
              <a:avLst>
                <a:gd name="adj1" fmla="val 50000"/>
              </a:avLst>
            </a:prstGeom>
            <a:ln w="6480">
              <a:solidFill>
                <a:srgbClr val="92d050"/>
              </a:solidFill>
              <a:miter/>
              <a:tailEnd len="med" type="triangle" w="med"/>
            </a:ln>
          </p:spPr>
        </p:cxnSp>
        <p:cxnSp>
          <p:nvCxnSpPr>
            <p:cNvPr id="630" name="肘形连接符 23"/>
            <p:cNvCxnSpPr>
              <a:stCxn id="611" idx="2"/>
              <a:endCxn id="623" idx="0"/>
            </p:cNvCxnSpPr>
            <p:nvPr/>
          </p:nvCxnSpPr>
          <p:spPr>
            <a:xfrm flipH="1" rot="16200000">
              <a:off x="6631200" y="2975400"/>
              <a:ext cx="914760" cy="1849320"/>
            </a:xfrm>
            <a:prstGeom prst="bentConnector3">
              <a:avLst>
                <a:gd name="adj1" fmla="val 50000"/>
              </a:avLst>
            </a:prstGeom>
            <a:ln w="6480">
              <a:solidFill>
                <a:srgbClr val="92d05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Box 2"/>
          <p:cNvSpPr/>
          <p:nvPr/>
        </p:nvSpPr>
        <p:spPr>
          <a:xfrm>
            <a:off x="6400800" y="2133720"/>
            <a:ext cx="243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99"/>
                </a:solidFill>
                <a:latin typeface="迷你简硬笔楷书"/>
                <a:ea typeface="迷你简硬笔楷书"/>
              </a:rPr>
              <a:t>谢 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3:07:49Z</dcterms:created>
  <dc:creator>锐得PPT论坛鲁果1986</dc:creator>
  <dc:description>http://bbs.ruideppt.com/forum.php</dc:description>
  <cp:keywords>鲁果1986原创</cp:keywords>
  <dc:language>en-US</dc:language>
  <cp:lastModifiedBy>Administrator</cp:lastModifiedBy>
  <dcterms:modified xsi:type="dcterms:W3CDTF">2017-07-13T17:54:58Z</dcterms:modified>
  <cp:revision>33</cp:revision>
  <dc:subject/>
  <dc:title>幸运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  <property fmtid="{D5CDD505-2E9C-101B-9397-08002B2CF9AE}" pid="3" name="Version">
    <vt:r8>1</vt:r8>
  </property>
</Properties>
</file>